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09E-1A69-45A1-B238-22110FA1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6DB-A19B-4541-9235-C2CC8A15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431-36CA-493E-ACF9-4DF1F353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A455-578A-427D-BA5D-D4FCE9F9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FE82-5AD0-4D3E-8B49-195531EA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6D2D-004B-4661-B88F-6B2C245B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630-A9C7-4B84-9C80-31FCA95E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2CA-212C-4752-8957-6DC83B8A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A84-F5A1-41F9-9A22-154FBFFD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6A9-6E60-4369-8564-012CF50E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D91-3888-437A-9463-C767E4A6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7C6E-40C0-427E-91DB-92DC5627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CDBD-274F-42BA-95CE-BD2258575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14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492280"/>
            <a:ext cx="58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АР - КОНДИТЕ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9720"/>
            <a:ext cx="9144000" cy="557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98400"/>
            <a:ext cx="9144000" cy="545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0"/>
            <a:ext cx="8686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20" y="0"/>
            <a:ext cx="8859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0520"/>
            <a:ext cx="914400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600" y="0"/>
            <a:ext cx="879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44720"/>
            <a:ext cx="9144000" cy="47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30320" y="0"/>
            <a:ext cx="7081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" y="0"/>
            <a:ext cx="907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6760"/>
            <a:ext cx="914400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пециалист, умеющий изготавливать кондитерские изделия и дес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6040"/>
            <a:ext cx="9144000" cy="596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9144000" cy="39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5240"/>
            <a:ext cx="9144000" cy="65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03440"/>
            <a:ext cx="9144000" cy="544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557360"/>
            <a:ext cx="3475080" cy="515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920" y="836640"/>
            <a:ext cx="5977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дводи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о-важные каче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ть гот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ая па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вкусова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нкий вкус и обон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а уровне рук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азомер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оизводящее воображение (способность, глядя на рецепт, представить внешний вид и вкус блюд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дитеру нуж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изическая вынослив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поточном производстве приходится работать в высоком темпе, а если на производстве нет автоматизации, это означает большие физические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е противопо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зни опорно-двигательного аппарата, сердечнососудистой системы,  аллергии на пищевые продукты, хронические заболевания органов пищеварения, органов дыхания, органов зрения, кожи с локализацией на кистях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о недопустимы инфекционные и нерв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514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628640"/>
            <a:ext cx="7199280" cy="42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89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райф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диционный английский десе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английского - «Мелочь», «Пустяч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чалом работ надеть форму, перч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десерта описано в технологической карте. Соблюдайте технологию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 о правилах безопасной работы с ножом и электрическим микс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иготовления 15 мину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44640"/>
            <a:ext cx="4537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«Кофе-брей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6028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Фруктовый (ягодный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2480" y="1844640"/>
            <a:ext cx="3608640" cy="45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ЕЦЕП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765000"/>
          <a:ext cx="8229600" cy="492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«Кофе-брей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«Фруктовый (ягодный)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холодным коф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ягодным сиро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– сироп (варенье из я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бан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фрукты или я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,7,8 слои повторяют 1,2,3,4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лой –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9:14:04Z</dcterms:created>
  <dc:creator>Александр</dc:creator>
  <dc:description/>
  <dc:language>en-US</dc:language>
  <cp:lastModifiedBy>Александр</cp:lastModifiedBy>
  <dcterms:modified xsi:type="dcterms:W3CDTF">2017-12-21T02:47:06Z</dcterms:modified>
  <cp:revision>4</cp:revision>
  <dc:subject/>
  <dc:title>Слайд 1</dc:title>
</cp:coreProperties>
</file>